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B61-9588-4DE4-9043-E4474DE1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B67-DF88-4513-8825-79E5E51D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65E07-8A8A-4844-8C13-2C990125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6C29E-2099-4436-B615-FBDC9CEC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07CA8-FDD8-4877-A5C7-B8B9623E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4B11C-617E-45B2-A3AA-2A271BCB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36B08-667C-4DC5-9B11-6EB628D3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740D9-3D3A-4CE6-B68D-4C2BA45A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1F66C-7550-4712-864B-2FA7A89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C8773-5226-45A4-A6AB-78601917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DD643-A491-4F3E-96A6-989C3371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85120-5E28-49C6-9A07-BD8F46A1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DFF-3770-4F35-919D-F4BEFBEF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BA41D-6839-476E-A43E-CC723021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F39D6-6A3C-4408-AE0A-A6D5C303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64E75-E21A-47A3-A839-7D8EE82D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5FA94-55E7-49D6-8213-9F779049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0930C-AB11-4889-8C96-A25B3A6F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AEC02-5E91-478A-ABCD-0938F1FE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0BA6B-70A0-48B8-8294-4E2E9F7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B884A-FA31-485D-A0A3-7C8682BD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4A930-D0AA-4944-A49A-1CE5533C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3FADE-D526-4609-BED8-235B41F8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286-8A52-4CED-ACF6-14ECF326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5D3E4-F461-4D3B-AC23-E9927AB2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8D8E6-7396-430A-B9CD-489BF6A0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C6A15-D572-4388-B991-04E61C25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B6AB7-FD79-4C05-97BB-7D6C56A5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37DBB-B975-4AAF-870F-03DA0A7C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D9A97-2560-4F69-8EEA-4E0E347A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5CCD4-B063-4110-A645-CB55726B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F3CC0-CFE0-437C-AE9A-DF6A1B15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43A33-7348-45C4-B637-70DA8DC4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C1B90-7A66-4954-B8DF-F6B87729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36AC-F286-4066-A43A-0CFE797C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FC8F-FFF0-491C-A222-E1183A1A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D98FD-12AF-4BBF-9E98-C714F88E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9C368-5B77-4A5D-BF05-22129A38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919AF-2309-4446-A428-F27CC50A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65227-E010-44DD-89AD-F3E98467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BDBA3-4543-4540-86B0-6E4C2DD9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3C0FF-33E8-41BB-B240-0D90C5F1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C30B7-C72A-4F7C-B75F-6D309399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F1EA0-F54F-4EC4-9CD4-1C66A070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07BE1-C972-4442-90FE-B59B3C7A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93AF-407D-421D-9B7F-6543146F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0785E-CA9C-42F0-A3D0-48C8E9DC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FB667-BF4E-470C-8F12-B9953098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22857-25CA-4633-8A42-66010EE0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2210F-C179-42F2-801A-64040786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2E40E-F829-4162-A959-E36BF2DF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4BE2F-8BFD-434D-AB82-10BB339C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BAA0A-83E6-46A1-8B49-756B4073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71D3C-3A41-4111-90D2-E684ADC0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26F39-BE58-4F04-A02E-2CC74200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D6746-D411-42FF-B9D6-2603EA8A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C1EE-A644-4F11-BF97-D6AA39A4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8BE6F-13D8-400C-8591-D348E3D3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CCD06-63C0-4E17-AFDA-634F772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592DB-7359-4E7E-B28D-5892C283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EC1F9-1A4D-4507-9BCF-E1F23713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A5729-2697-40FF-AD49-71557005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8F00E-B17E-492F-A03D-5E26E847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4EFEB-310A-4224-8115-AD0BF2A8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24234-7931-4DBF-A60C-1DD4B5B8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B7E314-D2D7-47E5-A35A-BFFC13D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DAC5C-BE5B-4D83-AA30-4A2E6DCF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BF8B-0A55-4D59-A62B-846E146D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8DBAF-E47C-4CAB-8AF9-C233C53F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FDEFF-0319-42EC-997F-7DF5FEBB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AF887-4E35-4C1A-B23B-11F5E8F0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1B524-C718-4975-9CB3-BC31EA96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EE025-7968-4A26-BF08-8E2C66BF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264B9-3828-4BF1-8D46-35E59744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72CAE-B840-49D2-B389-31F1C296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0D91A-14AE-4470-95FA-EE114A29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BB3C6-4973-4E4A-BAA8-95097DA5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88F83-B777-42EA-9170-B3B9D4DF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0CFF-F77D-4CDF-90D3-C1572A6D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2204B-B200-468B-B5D2-B400AB12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F6F28-ABD1-48B8-A53B-6D4D899E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D7AD2-0906-489B-AB37-1A7FA761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89719-6D27-4E3A-AE40-E7FA2835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2AB84-A6C4-47DF-922C-3579C15E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5AF47-792F-44E7-81D8-9034DC6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B54D8-6499-4E9A-A4E8-EF3138EC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8FA81-1B95-4EAD-AB74-A8A41773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6D4568-E3AF-42BA-8919-A9ED8BD5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72E82-9D74-42FE-840C-AD658203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DBBA-BB89-4C81-95B6-8AEB6531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8F11B-89FB-4611-8772-F3C5A276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CFF3C-F232-46C8-99B5-60EB8104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C1A41-DEBC-43DB-8E28-ECA49F0E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90A7C-F1C9-46D1-ACCD-9B48B628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8741D-F7BB-4757-8DEC-80F5BCC8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1D286-F94C-4819-ADD2-3351C32F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59C83-1E13-41F2-8EDB-E3EBE794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3EEF9-6869-4B10-94DB-F456CBBE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0D1E5-5799-46D7-ABC9-C981C374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AD410-5DC0-4439-822B-3DC2B11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DB01-B33C-4F2E-920B-BC02BD5C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59E79-0F07-427E-9726-7A87E1C7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4DB39-D47A-4906-973C-97D19568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6CB5A-DDE8-49C7-ABF5-2F758FBB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9E708-A1F2-443D-861F-39D58ED5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D27AA-FB34-4733-8739-D21CE10C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C0F00-8E7B-4C21-8200-B441C977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8B36A-0B01-4C0C-A105-EC5A66B2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62F12-1CC7-4DD5-824E-B38CF7E5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4E0CC-7AE6-432A-B9BB-D741F2BC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AC765-74BF-4CAC-AFA1-3DCDAB71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99E-56A9-48EE-941B-637B7656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8386-907C-4C6D-AD0A-8F81BAC3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EBD72-4316-488E-B616-A61F41C3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D4FB7-CF51-47D2-88FF-0A59DE7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05897-4C17-4A63-8A09-EB391A33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19762-594F-4209-8BFB-375A3201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2A0BB-6CE3-4C3F-8A35-1F2046EC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B87E3-8426-46F8-9A91-5725447D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DFFB5-F863-4E07-B4CF-B7652F3A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B1F1E-0B22-4E9E-9D33-DE842A45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F5DB8-1AE0-4ED9-BF46-5A9966F1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E8F6D-A9CA-42BF-8361-7435F213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E0E1-D080-4650-BA21-4639720F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BB09DF-39E6-4726-B270-43744207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7C16A2-29C3-4152-85C2-1700E2B3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E638B-3FE3-4F12-8B11-98FFC005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B66243-6ABD-4FF4-9871-95DB196D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4C291-C7C4-419C-98C7-5206CFCD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714C0-43DE-4532-A707-D5746787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5CD702-181E-4AEB-8A42-ED5FF05C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88998-F504-4FA4-B167-03F1DB19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CE0E80-AD2C-44F7-B922-E02B04E8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63FDF1-6D7B-4418-83E4-8F3DDCCC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35AB-2B0B-4698-B96A-7E7F5ABE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E53B2-15F7-411D-9971-AB009106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35A41-32BE-4C8A-82F5-200ADFF3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98BEE-173F-4323-95DB-9AC5009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29DAF-BAA4-4D2B-82D7-5CCFDF88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95576-186C-4890-90D1-DE417DF8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2F796E-DD24-4C1F-8A73-D361BC35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4C351-12B0-41CA-A95F-42D130C8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6D8A9C-A3BA-4813-9A86-56FE12FA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11885D-7450-4566-B53C-96275305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DDBFC-6341-42D6-B335-F3F833D8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20BA-94B5-4C96-A63B-7DBAAA12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4F72A-B0B8-41D9-BBBD-222FB2F3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8A80E-6FA9-4D5C-8D1F-4704FE11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2ADB4-6918-4971-8AE0-F146EF09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12B961-9FAE-4D51-BF0E-42BDDA06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1081CD-312B-4C20-9674-E5EF7E3B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79E5D-8856-4451-840A-4870351B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265D9-BB30-442A-BDBC-ED77C03E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5BFC6-509C-4143-8CE6-CBA1389D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DEE6E-61A5-4F5B-B317-978F4460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AE54F-8C6D-47AC-A06A-449D8D09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F39D-C026-42CE-B5DA-03514DAB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BD21F-04EA-4CDF-A5B0-ABF01706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443FD7-35F3-409F-9349-FA9C3CC4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19719E-1A58-4A84-BD64-044D9BFD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19FDE8-7B8C-44F0-9939-27788CE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88FC96-8FB7-48E0-88AA-1B64FB9B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47BEDA-1D4C-43E8-9C93-00C3D5C1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23CF7-2FE0-4257-8B3B-164EE26A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B96EB6-7B1B-4A1F-9841-4FC0397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030BCF-4576-4ED5-98D8-814CA70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17AA09-7C07-4B4F-B7FC-B8EBBDD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073C-26E4-455B-A452-ECEABF3C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06E8F-A2ED-425A-AD7A-8461D683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36E71E-92F7-40FE-A1D0-C9499A51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584969-C53C-4A15-ACAC-95414FA3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0BEB-68FD-4DCE-AA69-D0E4CC61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D4F6-B32A-4430-BFA3-2FAAE475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F1C4E-413C-43DD-A23E-C510F04D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17F9-8D33-42CF-90E0-F8177636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1A0-F996-47E0-BD72-8816C660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FE74-7130-462A-B671-603AA175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89F4-68F4-4A48-BA4B-CEA189D9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B077-C015-4F9A-ACB8-A1E35CD8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EC410-5C0C-4E7E-8FF1-4CDF99BC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6343-EE53-4940-B33F-EDF9E49A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871B-12E3-4865-AAD6-C6033A28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FDEB-D0E3-474F-A08D-0E0ABB75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DFBF-E3A0-46F5-BF9F-13962A2B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AAACE-5BD4-40B6-9BB1-693ABFC8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BD68A-11BB-4013-BE15-B7BE80EE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E32-9B3F-4FF4-91EC-A1920E22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49000-6E71-4F8B-A0CC-192A7595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6C0F-C547-41A7-B4CC-DD0CF8FC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6B48-362C-4F94-A137-9A593DF2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727BB-A59E-41DF-8C18-DE7A12C7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A6AE-D574-40C8-BD10-EAF1C17F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61FB-7DE7-46CF-BB95-C750DE3C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00A5-268A-4927-85E9-7509CC7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96D51-E3C5-4196-BA63-5BB8EEFB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5B81-87AA-4F8B-97EE-3D526D4C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40123-7689-4ED4-8AA9-816694D8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57A-A60B-450E-926C-7D8314D0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8CF7-09EF-41B0-940E-56212146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8932A-0067-4BAF-84C8-8ACA7DFC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6553-1977-4A67-A126-91668095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A37BC-467B-4F89-A386-C0D753DC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41058-A18F-4DBE-ABA7-09594ADF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A001F-AAB6-4F5C-90AA-CDCADE39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7C9FF-CD90-4B47-A7DB-3325336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C158-A4BD-4F09-8220-63E65657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E0189-5F24-435D-B7B0-F6FA4812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ED004-B306-4C4F-A798-0292B930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43E-6CFF-487E-96BE-080D0826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4AAFB-5414-4B7A-9256-9541B105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51820-2B7E-4834-BE92-4E80A2A1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4E620-D302-4CD5-9978-4CC27730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6FB3E-1F95-41EB-BDED-B1441094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8FA71-C45E-4FD8-8804-43AE48EA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535FB-7CF2-44F5-85D1-5BA8A30C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A7E99-A4C6-4CAB-A270-28119AB5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2D30B-CAF2-45DA-B1B7-CD8FD80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825F7-0E51-4557-A3E9-E98373BB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D1E81-8D1A-44D2-AC7F-EE85BB61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960-F733-4C5C-A74F-14ED52C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83E9B-7D5D-4DC8-9212-76D5F84D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4CA83-F3A0-4142-BAAF-CBC069EC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0CADB-C21A-4B13-8509-B5CEB9B6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A6BD-7BF8-401E-958A-EE62B165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65DA7-3287-44FE-9872-1A02E94D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D8E71-49B9-45E2-84FE-E4354A65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2A8FE-462D-4700-8A19-E7050910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0834D-9C03-4461-89DB-005D6BCC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A5882-413E-41E2-9EE4-BCFC456F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B9CF8-562D-45B7-A094-E595BF2F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229-E80A-41E6-9420-4DF8FF03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E07CF-614A-48B6-95DF-60996E91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3DF30-C8DD-4AAC-9115-FA4316D8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B7BF-512D-400A-9B92-15AEE65C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08613-6494-4CC0-94FD-24D1F57A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D8D75-1D2B-4D02-893A-ADFBBB5A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24CAA-0682-41C2-AAB1-F894CE76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95D17-9B32-4224-8CA9-1351F16E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91E31-5B68-4C7B-AFD8-E157D0A5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77273-31D8-4538-B6F3-3FF61E8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02D6C-459F-4121-9B9D-72D159A6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3AA-8265-484E-93AC-0AD99DD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83A4-FBF5-4638-8FF7-17BCC7C7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9D6F4-2AE8-490C-BC55-5318EFA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49F8A-C23E-4A58-A0E2-FD96057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A59EC-054F-4EC5-8113-D1AEF2D4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0F49A-BD3B-4A30-897E-29EDB9C1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9CD6F-3500-4445-81C8-722A7161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E2BA6-D319-4DAB-8863-4E5EBCD4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6A7E2-134C-4A92-8A72-A6775642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789E7-5E11-411E-8715-ED0C255E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E2286-5750-48AA-9850-CBFE0524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2115-CC7D-4563-9D50-4F2A34F9AD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68A8-6FA4-4C49-9F53-7E2F7C9500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052-BB96-4E02-B38E-D6FBD9CDB7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A285-BCA4-4939-8140-1785A1646F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6B9A-46B8-4E51-8A6F-71CACB81B7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E792-682A-4463-ADAB-F3D258E4D4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532B-5BC9-4885-917D-05114E5806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6E31-43B7-4390-8DE7-BB2E0C6657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E876-EAA9-4AC3-9AF9-E157275043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38B5-C804-45C9-95B3-D8F016999F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240D-B765-45B0-9B0E-335EFB4BFB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3380-5B9D-4AAE-91BD-4C9231E126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C938-4B79-42A6-8160-65A13B5B8A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2CF5-4724-43F1-81E6-085417FA5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4FAC-C98F-41FE-9F26-B89DEFAC9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4D66-C799-4DF6-A80A-46DAA84781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853-D154-499D-A6AF-C9AD147156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0356-6435-47CF-832D-8DAD5213FB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9523-D4B8-428F-A31E-46BB67165B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C0FD-6EA1-4F2F-83E5-2A1FC7C6F4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9E11-47FA-4351-9B6F-E373C1105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862C-18DB-45D9-8D5D-26111314A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709F-E9B4-4046-850B-09217DB5B8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E82-3676-427F-86FE-BA76B3577F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51C9-6751-4137-9B84-FFC7A37EFA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89D1-99D0-45B0-8E59-32F99DC2D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1E96-0979-499F-A77B-1CFA1587C9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394D-96A0-4D3B-9FFA-408F612CA9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9D2B-7047-4E8F-9691-1D8996733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5FA8-B7E4-43FB-8B41-6360487336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599D-F1E1-4FE1-8EC3-0DB2CD14EF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8746-8D55-4A12-B1BA-0851E4D64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B5EB-0328-40A7-B5A8-50B7F925C4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154B-1991-474D-B9E0-D6EF55501B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884F-3699-4832-AA91-465895A240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F445-563A-446B-85FC-ABD33672E2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FC7E-1A73-4D9F-8654-BE61C2D074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F006-A3EB-4295-BEED-175A70128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993B-3FF0-41D1-826E-55FD7DBE60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FA6F-29BF-48EC-BFC5-E71FABE90E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66920" y="3052800"/>
            <a:ext cx="461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9633" descr=""/>
          <p:cNvPicPr/>
          <p:nvPr/>
        </p:nvPicPr>
        <p:blipFill>
          <a:blip r:embed="rId1"/>
          <a:stretch/>
        </p:blipFill>
        <p:spPr>
          <a:xfrm>
            <a:off x="271440" y="797040"/>
            <a:ext cx="8601120" cy="58006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3419640" y="3083040"/>
            <a:ext cx="502920" cy="792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5680080" y="308304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956720" y="307008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900000" y="4091040"/>
            <a:ext cx="7993080" cy="4316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971640" y="4710240"/>
            <a:ext cx="7704000" cy="7920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900000" y="5718240"/>
            <a:ext cx="7704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819000" y="900000"/>
            <a:ext cx="7506000" cy="5058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03280" y="2852640"/>
            <a:ext cx="3097440" cy="936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3097440" cy="936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403280" y="4941720"/>
            <a:ext cx="3097440" cy="936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364000" y="2852640"/>
            <a:ext cx="3097440" cy="936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364000" y="3860640"/>
            <a:ext cx="309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738360" y="1419120"/>
            <a:ext cx="7667280" cy="4019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826920" y="2824200"/>
            <a:ext cx="2737080" cy="8920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2736720" cy="8920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4788000" y="2766960"/>
            <a:ext cx="3097080" cy="892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4716360" y="3833640"/>
            <a:ext cx="2737080" cy="8924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4643280" y="4768920"/>
            <a:ext cx="27370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857160" y="1157400"/>
            <a:ext cx="7429680" cy="45432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3527640" cy="9352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3527640" cy="934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3527640" cy="934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4716360" y="2349360"/>
            <a:ext cx="3527640" cy="935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4716360" y="3429000"/>
            <a:ext cx="3527640" cy="934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4716360" y="4508640"/>
            <a:ext cx="3527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733320" y="1395360"/>
            <a:ext cx="7677360" cy="4067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2879640" cy="8650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258920" y="4365720"/>
            <a:ext cx="2879640" cy="865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5292720" y="3298680"/>
            <a:ext cx="2879640" cy="865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5219640" y="4379760"/>
            <a:ext cx="28796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852480" y="1762200"/>
            <a:ext cx="7439040" cy="3333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311640" cy="936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3311640" cy="936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4932360" y="2997360"/>
            <a:ext cx="3311640" cy="9363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4932360" y="4076640"/>
            <a:ext cx="3311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5300" descr=""/>
          <p:cNvPicPr/>
          <p:nvPr/>
        </p:nvPicPr>
        <p:blipFill>
          <a:blip r:embed="rId1"/>
          <a:stretch/>
        </p:blipFill>
        <p:spPr>
          <a:xfrm>
            <a:off x="366840" y="304920"/>
            <a:ext cx="8410320" cy="6248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332000" y="3500280"/>
            <a:ext cx="2808360" cy="9367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808360" cy="936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00000" y="5502240"/>
            <a:ext cx="2808360" cy="5191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55640" y="5978520"/>
            <a:ext cx="51116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309600" y="793800"/>
            <a:ext cx="8524800" cy="5514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403280" y="2836800"/>
            <a:ext cx="2664000" cy="952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2664000" cy="952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900000" y="4869000"/>
            <a:ext cx="2664000" cy="504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900000" y="5445000"/>
            <a:ext cx="6193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309600" y="841320"/>
            <a:ext cx="8524800" cy="5467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1258920" y="3213000"/>
            <a:ext cx="4033800" cy="863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971640" y="4235400"/>
            <a:ext cx="4033800" cy="863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1042920" y="5286240"/>
            <a:ext cx="47530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971640" y="579132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51:3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